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0"/>
            <a:ext cx="10337760" cy="7623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50840" y="2376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The Spanish-American Wa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2182680" y="3060720"/>
            <a:ext cx="62485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Day 1 Reflection Question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9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Do you think if the US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Ma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 had not been destroyed, the Spanish-American War would not have occurred? Why or why not?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5:48Z</dcterms:created>
  <dc:creator>Jim Larkin</dc:creator>
  <dc:description/>
  <cp:keywords/>
  <dc:language>en-US</dc:language>
  <cp:lastModifiedBy>Sacerdote, Kevin R.</cp:lastModifiedBy>
  <dcterms:modified xsi:type="dcterms:W3CDTF">2015-11-01T19:01:5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